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933600" cy="939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6"/>
          </p:nvPr>
        </p:nvSpPr>
        <p:spPr>
          <a:xfrm>
            <a:off x="3927240" y="-360"/>
            <a:ext cx="300492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17080" y="704880"/>
            <a:ext cx="4699080" cy="352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7"/>
          </p:nvPr>
        </p:nvSpPr>
        <p:spPr>
          <a:xfrm>
            <a:off x="0" y="8926200"/>
            <a:ext cx="300528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8"/>
          </p:nvPr>
        </p:nvSpPr>
        <p:spPr>
          <a:xfrm>
            <a:off x="3927240" y="8926200"/>
            <a:ext cx="300492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7486B-0C08-491C-8024-1F51769F530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"Восточ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славяне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древности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AB6D1-7785-4E5D-B2EC-B21230B4D0A9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ffff"/>
                </a:solidFill>
                <a:uFillTx/>
                <a:latin typeface="Calibri"/>
              </a:rPr>
              <a:t>4.Происхождение Рус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Times New Roman"/>
              </a:rPr>
              <a:t>Название Русь объясняется 2-я вариантам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imes New Roman"/>
              </a:rPr>
              <a:t>1.По названию варяжского племен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imes New Roman"/>
              </a:rPr>
              <a:t>2.По названию р.Рось(на Украин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Times New Roman"/>
              </a:rPr>
              <a:t>Прочитайте отрывок из ПВЛ относящийся к 7 веку и сделайте вывод,какой вариант кажется вам верным, 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Times New Roman"/>
              </a:rPr>
              <a:t>«Повесть временных лет» рассказыва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imes New Roman"/>
              </a:rPr>
              <a:t>Напали на полян хазары... И сказали хазары: «Плати-те нам дань». Посоветовались поляне и дали от двора меч... И сказали старцы хазарские: «Не добрая это дань. Мы добыли ее саблями, заостренными с одной стороны, а у этих оружие обоюдоострое; будут они (русы) потом брать дань с нас самих!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B9E3A-FD1F-46F6-96CC-DAC642181ECB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00"/>
                </a:solidFill>
                <a:uFillTx/>
                <a:latin typeface="Calibri"/>
              </a:rPr>
              <a:t>План уро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1.Происхождение славя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2.Расселение славянских плем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3.Язычество древних славя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4.Происхождение Рус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29AA9-278E-4928-8A0C-6AB7487CCFD7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00"/>
                </a:solidFill>
                <a:uFillTx/>
                <a:latin typeface="Calibri"/>
              </a:rPr>
              <a:t>Задание на урок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опытайтесь выяснить, чем славяне отличались от других народов Европ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454D0-F047-4418-B4E3-2F8A77DD8F8E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1.Происхождение славя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36A56-30E2-423C-B48D-E4A9B3EF9F2D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ffff"/>
                </a:solidFill>
                <a:uFillTx/>
                <a:latin typeface="Calibri"/>
              </a:rPr>
              <a:t>2.Расселение славянских племен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Calibri"/>
              </a:rPr>
              <a:t>Восточные славяне заселив Восточно- Европейскую рав-нину, постепенно обособились друг от друга, и раздели-лись на племе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Определите, как на-зывались племена восточных славян, и где они жил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EE56A-6F18-48C3-AB3B-A6FD22EFA3D2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ffff"/>
                </a:solidFill>
                <a:uFillTx/>
                <a:latin typeface="Calibri"/>
              </a:rPr>
              <a:t>2.Расселение славянских племен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Calibri"/>
              </a:rPr>
              <a:t>Большинство славян жили в лесах, но поляне обитали в лесостепной поло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-Опишите их быт? Чем они занималис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57E59-2B2F-4E9F-8BB3-96E56EB43BE0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3.Язычество древних славян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Calibri"/>
              </a:rPr>
              <a:t>Язычество</a:t>
            </a: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это не религия, а мировоззрение.Славя-не пытались объяснить то ,что видели вокру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-Почему появилась вера в богов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Рассмотрите слайд и по-пытайтесь определить, какие боги были у сла-вян и чему они покрови-тельствовал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Перун-верховный бог,Сва-рог-бог огня, Стрибог-бог ветра,Велес бог ско-товодства,Мокошь-боги-ня тка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D751F-5814-461F-BAB6-8CB0C1ED7441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3.Язычество древних славян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Для поклонения богам славяне строили Капища.По его границе водружались Идолы(деревянные изображе-ния богов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В капищах славяне приносили жертвы,совершали об-ряды, просили богов о милости и покровительстве</a:t>
            </a: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D120F-B010-4C00-BEB8-C0D8AA96A52B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3.Язычество древних славян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Наряду с богами славяне верили в «низших духов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Те в свою очередь делились на полезных и опасных</a:t>
            </a: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-Определите, кто изображен на слайдах и к какой группе духов относятся эти существ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-Домовой,леший,водяной,волкола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-Каких еще славянских духов вы знает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1175F-C0F6-43DE-83A7-02E67413047D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578D8-8E1E-4FC1-A7EF-9A2DA65992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F0FEF-70E4-4B10-81CA-EC044E9B3A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0D6A3-A246-492F-B0DD-F00DEA5837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93A8E-7883-4F3D-82B3-FCB7A7AC0E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B0C654-1523-4C3C-9C6E-7C3021854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AE7C88-3A7F-4CBD-8C1F-4151D5B27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836794-5E5E-443E-9DBF-E60CC630F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3E8975-5A41-4BE0-90A0-752BCA25C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5537A8-BA83-4131-BB06-0B215FC9C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370160" y="375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46F44F-6252-40F0-8D56-904CD4515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F09AC5-11B8-439D-AA59-2F65ED9DB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684B0-508F-49AF-A86C-29696BAB24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1719CF-16BB-4E4B-93BF-4FE5B3C3A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EBD0D3-BEA0-4E6C-AFFC-C6F7A02E1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7B57F9-D95B-47A1-A2BF-2840D5217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3F4FEF-4B7F-45FC-8557-3CC833B0C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A7E74F-EAB7-4112-A88F-36F8F6197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00ADC-9247-41E8-A831-FCB0141410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12BBA-E37E-48EB-A37F-7F09DAA2E4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8FA3C-CC51-43AD-8426-83E87F49C8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370160" y="375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1009D-F7AC-41F3-9274-C774343222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24931-31B7-4591-AA58-FA09704E5C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D3AB0-AC5E-4C79-80FF-49B2721538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F0E4E-D5A7-49B7-AB72-0F41978C44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3240" y="463680"/>
            <a:ext cx="399960" cy="6400800"/>
          </a:xfrm>
          <a:custGeom>
            <a:avLst/>
            <a:gdLst/>
            <a:ahLst/>
            <a:rect l="l" t="t" r="r" b="b"/>
            <a:pathLst>
              <a:path fill="none" w="21600" h="43200">
                <a:moveTo>
                  <a:pt x="21600" y="43200"/>
                </a:moveTo>
                <a:cubicBezTo>
                  <a:pt x="9670" y="43200"/>
                  <a:pt x="0" y="33529"/>
                  <a:pt x="0" y="21600"/>
                </a:cubicBezTo>
                <a:cubicBezTo>
                  <a:pt x="-1" y="9670"/>
                  <a:pt x="9670" y="0"/>
                  <a:pt x="21599" y="0"/>
                </a:cubicBezTo>
              </a:path>
              <a:path stroke="0" w="21600" h="43200">
                <a:moveTo>
                  <a:pt x="21600" y="43200"/>
                </a:moveTo>
                <a:cubicBezTo>
                  <a:pt x="9670" y="43200"/>
                  <a:pt x="0" y="33529"/>
                  <a:pt x="0" y="21600"/>
                </a:cubicBezTo>
                <a:cubicBezTo>
                  <a:pt x="-1" y="9670"/>
                  <a:pt x="9670" y="0"/>
                  <a:pt x="21599" y="0"/>
                </a:cubicBezTo>
                <a:lnTo>
                  <a:pt x="21600" y="21600"/>
                </a:lnTo>
                <a:lnTo>
                  <a:pt x="21600" y="43200"/>
                </a:lnTo>
                <a:close/>
              </a:path>
            </a:pathLst>
          </a:cu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" name="Arc 3"/>
          <p:cNvSpPr/>
          <p:nvPr/>
        </p:nvSpPr>
        <p:spPr>
          <a:xfrm>
            <a:off x="1333440" y="463680"/>
            <a:ext cx="399960" cy="6400800"/>
          </a:xfrm>
          <a:custGeom>
            <a:avLst/>
            <a:gdLst/>
            <a:ahLst/>
            <a:rect l="l" t="t" r="r" b="b"/>
            <a:pathLst>
              <a:path fill="none" w="21600" h="432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529"/>
                  <a:pt x="11929" y="43199"/>
                  <a:pt x="0" y="43200"/>
                </a:cubicBezTo>
              </a:path>
              <a:path stroke="0" w="21600" h="432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529"/>
                  <a:pt x="11929" y="43199"/>
                  <a:pt x="0" y="432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324000" y="0"/>
            <a:ext cx="106668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8732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16227-C88F-4F04-A86D-11EF1F974ED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10">
            <a:hlinkClick r:id="" action="ppaction://hlinkshowjump?jump=nextslide"/>
          </p:cNvPr>
          <p:cNvSpPr/>
          <p:nvPr/>
        </p:nvSpPr>
        <p:spPr>
          <a:xfrm rot="5400000">
            <a:off x="610920" y="6156360"/>
            <a:ext cx="539640" cy="41292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66ccff"/>
              </a:gs>
              <a:gs pos="100000">
                <a:srgbClr val="ff99ff"/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090a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8" name="AutoShape 11">
            <a:hlinkClick r:id="" action="ppaction://hlinkshowjump?jump=previousslide"/>
          </p:cNvPr>
          <p:cNvSpPr/>
          <p:nvPr/>
        </p:nvSpPr>
        <p:spPr>
          <a:xfrm flipH="1" rot="16200000">
            <a:off x="48240" y="6156360"/>
            <a:ext cx="539640" cy="41292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ff99ff"/>
              </a:gs>
              <a:gs pos="100000">
                <a:srgbClr val="66ccff"/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090a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6492960" y="147600"/>
            <a:ext cx="1887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6699"/>
                </a:solidFill>
                <a:latin typeface="Times New Roman"/>
              </a:rPr>
              <a:t>Меню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0" name="Oval 13"/>
          <p:cNvSpPr/>
          <p:nvPr/>
        </p:nvSpPr>
        <p:spPr>
          <a:xfrm>
            <a:off x="8518680" y="125280"/>
            <a:ext cx="539640" cy="538200"/>
          </a:xfrm>
          <a:prstGeom prst="ellipse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1" name="Oval 14"/>
          <p:cNvSpPr/>
          <p:nvPr/>
        </p:nvSpPr>
        <p:spPr>
          <a:xfrm>
            <a:off x="8470800" y="58680"/>
            <a:ext cx="541440" cy="5349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2" name="Arc 15"/>
          <p:cNvSpPr/>
          <p:nvPr/>
        </p:nvSpPr>
        <p:spPr>
          <a:xfrm>
            <a:off x="8729640" y="63360"/>
            <a:ext cx="284040" cy="533520"/>
          </a:xfrm>
          <a:custGeom>
            <a:avLst/>
            <a:gdLst/>
            <a:ahLst/>
            <a:rect l="l" t="t" r="r" b="b"/>
            <a:pathLst>
              <a:path fill="none" w="22730" h="43200">
                <a:moveTo>
                  <a:pt x="1129" y="0"/>
                </a:moveTo>
                <a:cubicBezTo>
                  <a:pt x="13059" y="0"/>
                  <a:pt x="22730" y="9670"/>
                  <a:pt x="22730" y="21600"/>
                </a:cubicBezTo>
                <a:cubicBezTo>
                  <a:pt x="22730" y="33529"/>
                  <a:pt x="13059" y="43200"/>
                  <a:pt x="1130" y="43200"/>
                </a:cubicBezTo>
                <a:cubicBezTo>
                  <a:pt x="753" y="43200"/>
                  <a:pt x="376" y="43190"/>
                  <a:pt x="-1" y="43170"/>
                </a:cubicBezTo>
              </a:path>
              <a:path stroke="0" w="22730" h="43200">
                <a:moveTo>
                  <a:pt x="1129" y="0"/>
                </a:moveTo>
                <a:cubicBezTo>
                  <a:pt x="13059" y="0"/>
                  <a:pt x="22730" y="9670"/>
                  <a:pt x="22730" y="21600"/>
                </a:cubicBezTo>
                <a:cubicBezTo>
                  <a:pt x="22730" y="33529"/>
                  <a:pt x="13059" y="43200"/>
                  <a:pt x="1130" y="43200"/>
                </a:cubicBezTo>
                <a:cubicBezTo>
                  <a:pt x="753" y="43200"/>
                  <a:pt x="376" y="43190"/>
                  <a:pt x="-1" y="43170"/>
                </a:cubicBezTo>
                <a:lnTo>
                  <a:pt x="1130" y="21600"/>
                </a:lnTo>
                <a:lnTo>
                  <a:pt x="1129" y="0"/>
                </a:lnTo>
                <a:close/>
              </a:path>
            </a:pathLst>
          </a:custGeom>
          <a:solidFill>
            <a:srgbClr val="090a1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3" name="Arc 16"/>
          <p:cNvSpPr/>
          <p:nvPr/>
        </p:nvSpPr>
        <p:spPr>
          <a:xfrm>
            <a:off x="8472600" y="63360"/>
            <a:ext cx="284040" cy="533520"/>
          </a:xfrm>
          <a:custGeom>
            <a:avLst/>
            <a:gdLst/>
            <a:ahLst/>
            <a:rect l="l" t="t" r="r" b="b"/>
            <a:pathLst>
              <a:path fill="none" w="22730" h="43200">
                <a:moveTo>
                  <a:pt x="22730" y="43170"/>
                </a:moveTo>
                <a:cubicBezTo>
                  <a:pt x="22353" y="43190"/>
                  <a:pt x="21976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670"/>
                  <a:pt x="9670" y="0"/>
                  <a:pt x="21599" y="0"/>
                </a:cubicBezTo>
              </a:path>
              <a:path stroke="0" w="22730" h="43200">
                <a:moveTo>
                  <a:pt x="22730" y="43170"/>
                </a:moveTo>
                <a:cubicBezTo>
                  <a:pt x="22353" y="43190"/>
                  <a:pt x="21976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670"/>
                  <a:pt x="9670" y="0"/>
                  <a:pt x="21599" y="0"/>
                </a:cubicBezTo>
                <a:lnTo>
                  <a:pt x="21600" y="21600"/>
                </a:lnTo>
                <a:lnTo>
                  <a:pt x="22730" y="4317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4" name="Oval 17">
            <a:hlinkClick r:id="" action="ppaction://hlinkshowjump?jump=firstslide"/>
          </p:cNvPr>
          <p:cNvSpPr/>
          <p:nvPr/>
        </p:nvSpPr>
        <p:spPr>
          <a:xfrm>
            <a:off x="8555040" y="142920"/>
            <a:ext cx="378000" cy="37296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rc 2"/>
          <p:cNvSpPr/>
          <p:nvPr/>
        </p:nvSpPr>
        <p:spPr>
          <a:xfrm>
            <a:off x="3240" y="463680"/>
            <a:ext cx="399960" cy="6400800"/>
          </a:xfrm>
          <a:custGeom>
            <a:avLst/>
            <a:gdLst/>
            <a:ahLst/>
            <a:rect l="l" t="t" r="r" b="b"/>
            <a:pathLst>
              <a:path fill="none" w="21600" h="43200">
                <a:moveTo>
                  <a:pt x="21600" y="43200"/>
                </a:moveTo>
                <a:cubicBezTo>
                  <a:pt x="9670" y="43200"/>
                  <a:pt x="0" y="33529"/>
                  <a:pt x="0" y="21600"/>
                </a:cubicBezTo>
                <a:cubicBezTo>
                  <a:pt x="-1" y="9670"/>
                  <a:pt x="9670" y="0"/>
                  <a:pt x="21599" y="0"/>
                </a:cubicBezTo>
              </a:path>
              <a:path stroke="0" w="21600" h="43200">
                <a:moveTo>
                  <a:pt x="21600" y="43200"/>
                </a:moveTo>
                <a:cubicBezTo>
                  <a:pt x="9670" y="43200"/>
                  <a:pt x="0" y="33529"/>
                  <a:pt x="0" y="21600"/>
                </a:cubicBezTo>
                <a:cubicBezTo>
                  <a:pt x="-1" y="9670"/>
                  <a:pt x="9670" y="0"/>
                  <a:pt x="21599" y="0"/>
                </a:cubicBezTo>
                <a:lnTo>
                  <a:pt x="21600" y="21600"/>
                </a:lnTo>
                <a:lnTo>
                  <a:pt x="21600" y="43200"/>
                </a:lnTo>
                <a:close/>
              </a:path>
            </a:pathLst>
          </a:cu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52" name="Arc 3"/>
          <p:cNvSpPr/>
          <p:nvPr/>
        </p:nvSpPr>
        <p:spPr>
          <a:xfrm>
            <a:off x="1333440" y="463680"/>
            <a:ext cx="399960" cy="6400800"/>
          </a:xfrm>
          <a:custGeom>
            <a:avLst/>
            <a:gdLst/>
            <a:ahLst/>
            <a:rect l="l" t="t" r="r" b="b"/>
            <a:pathLst>
              <a:path fill="none" w="21600" h="432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529"/>
                  <a:pt x="11929" y="43199"/>
                  <a:pt x="0" y="43200"/>
                </a:cubicBezTo>
              </a:path>
              <a:path stroke="0" w="21600" h="432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529"/>
                  <a:pt x="11929" y="43199"/>
                  <a:pt x="0" y="432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324000" y="0"/>
            <a:ext cx="106668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54" name="AutoShape 10">
            <a:hlinkClick r:id="" action="ppaction://hlinkshowjump?jump=nextslide"/>
          </p:cNvPr>
          <p:cNvSpPr/>
          <p:nvPr/>
        </p:nvSpPr>
        <p:spPr>
          <a:xfrm rot="5400000">
            <a:off x="610920" y="6156360"/>
            <a:ext cx="539640" cy="41292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66ccff"/>
              </a:gs>
              <a:gs pos="100000">
                <a:srgbClr val="ff99ff"/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090a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3"/>
          </p:nvPr>
        </p:nvSpPr>
        <p:spPr>
          <a:xfrm>
            <a:off x="1905120" y="21337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2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29D79-10D1-4AA9-87F5-FFD04234AEFD}" type="datetime">
              <a:rPr b="0" lang="ru-RU" sz="3200" spc="-1" strike="noStrike">
                <a:solidFill>
                  <a:srgbClr val="336699"/>
                </a:solidFill>
                <a:latin typeface="Arial"/>
              </a:rPr>
              <a:t>30.07.26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4"/>
          </p:nvPr>
        </p:nvSpPr>
        <p:spPr>
          <a:xfrm>
            <a:off x="38732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5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C2C9F-98A7-4A15-B2D3-04407B670934}" type="slidenum"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1905120" y="21337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BA19F-ADF2-4C03-A5AC-9E8B9EFBB099}" type="datetime">
              <a:rPr b="1" lang="ru-RU" sz="3200" spc="-1" strike="noStrike">
                <a:solidFill>
                  <a:srgbClr val="336699"/>
                </a:solidFill>
                <a:latin typeface="Arial"/>
              </a:rPr>
              <a:t>30.07.26</a:t>
            </a:fld>
            <a:endParaRPr b="1" lang="en-US" sz="3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pic>
        <p:nvPicPr>
          <p:cNvPr id="104" name="WordArt 6" descr="Дуб"/>
          <p:cNvPicPr/>
          <p:nvPr/>
        </p:nvPicPr>
        <p:blipFill>
          <a:blip r:embed="rId1"/>
          <a:stretch/>
        </p:blipFill>
        <p:spPr>
          <a:xfrm>
            <a:off x="1579680" y="2724120"/>
            <a:ext cx="6973920" cy="3925800"/>
          </a:xfrm>
          <a:prstGeom prst="rect">
            <a:avLst/>
          </a:prstGeom>
          <a:ln w="0">
            <a:noFill/>
          </a:ln>
        </p:spPr>
      </p:pic>
      <p:pic>
        <p:nvPicPr>
          <p:cNvPr id="105" name="WordArt 7" descr=""/>
          <p:cNvPicPr/>
          <p:nvPr/>
        </p:nvPicPr>
        <p:blipFill>
          <a:blip r:embed="rId2"/>
          <a:stretch/>
        </p:blipFill>
        <p:spPr>
          <a:xfrm>
            <a:off x="2193840" y="712800"/>
            <a:ext cx="5962680" cy="101916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228600" y="609120"/>
            <a:ext cx="8763120" cy="61722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Название Русь объясняется 2-я вариантами: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1.По названию варяжского племени,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2.По названию р.Рось(на Украине)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Прочитайте отрывок из ПВЛ относящийся к 7 веку и сделайте вывод,какой вариант кажется вам верным, почему?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«Повесть временных лет» рассказывает: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Напали на полян хазары... И сказали хазары: «Плати-те нам дань». Посоветовались поляне и дали от двора меч... И сказали старцы хазарские: «Не добрая это дань. Мы добыли ее саблями, заостренными с одной стороны, а у этих оружие обоюдоострое; будут они (русы) потом брать дань с нас самих!»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53316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4.Происхождение Руси.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3" dur="1" fill="hold"/>
                                  <p:tgtEl>
                                    <p:spTgt spid="15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4360" y="533520"/>
            <a:ext cx="7240680" cy="98568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ff00"/>
                </a:solidFill>
                <a:uFillTx/>
                <a:latin typeface="Times New Roman"/>
              </a:rPr>
              <a:t>План урока</a:t>
            </a:r>
            <a:endParaRPr b="0" lang="en-US" sz="6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520" y="2361960"/>
            <a:ext cx="7240320" cy="38098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336699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1.Происхождение славян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2.Расселение славянских племен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3.Язычество древних славян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4.Происхождение Руси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74360" y="533520"/>
            <a:ext cx="7240680" cy="9856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ff00"/>
                </a:solidFill>
                <a:uFillTx/>
                <a:latin typeface="Times New Roman"/>
              </a:rPr>
              <a:t>Задание на урок.</a:t>
            </a:r>
            <a:endParaRPr b="0" lang="en-US" sz="6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676520" y="2362320"/>
            <a:ext cx="7240320" cy="4114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Попытайтесь выяснить, чем славяне отличались от других народов Европы?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6" descr="Рисунок9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62643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53316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1.Происхождение славян.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227880" y="4130640"/>
            <a:ext cx="5671800" cy="825480"/>
          </a:xfrm>
          <a:prstGeom prst="rect">
            <a:avLst/>
          </a:prstGeom>
          <a:solidFill>
            <a:srgbClr val="ffffff"/>
          </a:solidFill>
          <a:ln cap="sq"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Times New Roman"/>
              </a:rPr>
              <a:t>Определите по карте прародину славян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Times New Roman"/>
              </a:rPr>
              <a:t>и родственные им народы?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888360" y="838080"/>
            <a:ext cx="1043280" cy="45972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Times New Roman"/>
              </a:rPr>
              <a:t>балты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2487240" y="1557360"/>
            <a:ext cx="157212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Times New Roman"/>
              </a:rPr>
              <a:t>германцы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308520" y="879480"/>
            <a:ext cx="187848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Times New Roman"/>
              </a:rPr>
              <a:t>скандинавы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158040" y="1523880"/>
            <a:ext cx="121104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Times New Roman"/>
              </a:rPr>
              <a:t>кельты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321120" y="3048120"/>
            <a:ext cx="97164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Times New Roman"/>
              </a:rPr>
              <a:t>баски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1537200" y="2743200"/>
            <a:ext cx="135432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Times New Roman"/>
              </a:rPr>
              <a:t>италики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4597200" y="2209680"/>
            <a:ext cx="111492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Times New Roman"/>
              </a:rPr>
              <a:t>скифы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4128120" y="1523880"/>
            <a:ext cx="1279440" cy="45972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славяне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24" name="Text Box 14"/>
          <p:cNvSpPr/>
          <p:nvPr/>
        </p:nvSpPr>
        <p:spPr>
          <a:xfrm>
            <a:off x="7071480" y="3789360"/>
            <a:ext cx="167436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Times New Roman"/>
              </a:rPr>
              <a:t>Индо-арии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25" name="Text Box 15"/>
          <p:cNvSpPr/>
          <p:nvPr/>
        </p:nvSpPr>
        <p:spPr>
          <a:xfrm>
            <a:off x="6267600" y="2860560"/>
            <a:ext cx="103428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Times New Roman"/>
              </a:rPr>
              <a:t>персы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724280" y="838080"/>
            <a:ext cx="4267440" cy="59436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Восточные славяне заселив Восточно- Европейскую рав-нину, постепенно обособились друг от друга, и раздели-лись на племена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90a11"/>
                </a:solidFill>
                <a:latin typeface="Arial"/>
              </a:rPr>
              <a:t>Определите, как на-зывались племена восточных славян, и где они жили?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53352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2.Расселение славянских племен.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29" name="Picture 8" descr="Рисунок8"/>
          <p:cNvPicPr/>
          <p:nvPr/>
        </p:nvPicPr>
        <p:blipFill>
          <a:blip r:embed="rId1"/>
          <a:stretch/>
        </p:blipFill>
        <p:spPr>
          <a:xfrm>
            <a:off x="46080" y="836640"/>
            <a:ext cx="4670280" cy="597708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8" dur="1" fill="hold"/>
                                  <p:tgtEl>
                                    <p:spTgt spid="12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6320" y="5105160"/>
            <a:ext cx="8991360" cy="16002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Большинство славян жили в лесах, но поляне обитали в лесостепной полосе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90a11"/>
                </a:solidFill>
                <a:latin typeface="Arial"/>
              </a:rPr>
              <a:t>-Опишите их быт? Чем они занимались?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53352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2.Расселение славянских племен.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33" name="Picture 8" descr="Рисунок7"/>
          <p:cNvPicPr/>
          <p:nvPr/>
        </p:nvPicPr>
        <p:blipFill>
          <a:blip r:embed="rId1"/>
          <a:stretch/>
        </p:blipFill>
        <p:spPr>
          <a:xfrm>
            <a:off x="1906560" y="739800"/>
            <a:ext cx="5761080" cy="431964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2" dur="1" fill="hold"/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9" descr="Рисунок6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20600" y="873000"/>
            <a:ext cx="4451400" cy="52200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53316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3.Язычество древних славян.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1640" y="609120"/>
            <a:ext cx="4419720" cy="61722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Язычество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это не религия, а мировоззрение.Славя-не пытались объяснить то ,что видели вокруг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-Почему появилась вера в богов?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Рассмотрите слайд и по-пытайтесь определить, какие боги были у сла-вян и чему они покрови-тельствовали?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Перун-верховный бог,Сва-рог-бог огня, Стрибог-бог ветра,Велес бог ско-товодства,Мокошь-боги-ня ткачества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8" name="Text Box 13"/>
          <p:cNvSpPr/>
          <p:nvPr/>
        </p:nvSpPr>
        <p:spPr>
          <a:xfrm>
            <a:off x="1980720" y="981000"/>
            <a:ext cx="988560" cy="4597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перун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39" name="Text Box 14"/>
          <p:cNvSpPr/>
          <p:nvPr/>
        </p:nvSpPr>
        <p:spPr>
          <a:xfrm>
            <a:off x="3320280" y="6051600"/>
            <a:ext cx="1287000" cy="4597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мокошь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40" name="Line 15"/>
          <p:cNvSpPr/>
          <p:nvPr/>
        </p:nvSpPr>
        <p:spPr>
          <a:xfrm flipV="1">
            <a:off x="3962520" y="5552640"/>
            <a:ext cx="304560" cy="381240"/>
          </a:xfrm>
          <a:prstGeom prst="line">
            <a:avLst/>
          </a:prstGeom>
          <a:ln cap="sq" w="76320">
            <a:solidFill>
              <a:srgbClr val="cc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41" name="Text Box 16"/>
          <p:cNvSpPr/>
          <p:nvPr/>
        </p:nvSpPr>
        <p:spPr>
          <a:xfrm>
            <a:off x="2955600" y="5692680"/>
            <a:ext cx="923040" cy="4597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велес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42" name="Text Box 17"/>
          <p:cNvSpPr/>
          <p:nvPr/>
        </p:nvSpPr>
        <p:spPr>
          <a:xfrm>
            <a:off x="1024200" y="5235480"/>
            <a:ext cx="1253520" cy="4597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стрибог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43" name="Text Box 18"/>
          <p:cNvSpPr/>
          <p:nvPr/>
        </p:nvSpPr>
        <p:spPr>
          <a:xfrm>
            <a:off x="3241800" y="2492280"/>
            <a:ext cx="1093680" cy="4597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сварог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6" dur="1" fill="hold"/>
                                  <p:tgtEl>
                                    <p:spTgt spid="13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10480" cy="53352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3.Язычество древних славян.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320" y="4648320"/>
            <a:ext cx="8991360" cy="21333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Для поклонения богам славяне строили Капища.По его границе водружались Идолы(деревянные изображе-ния богов)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В капищах славяне приносили жертвы,совершали об-ряды, просили богов о милости и покровительстве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47" name="Picture 5" descr="Рисунок5"/>
          <p:cNvPicPr/>
          <p:nvPr/>
        </p:nvPicPr>
        <p:blipFill>
          <a:blip r:embed="rId1"/>
          <a:stretch/>
        </p:blipFill>
        <p:spPr>
          <a:xfrm>
            <a:off x="1763640" y="692280"/>
            <a:ext cx="5832720" cy="396072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0" dur="1" fill="hold"/>
                                  <p:tgtEl>
                                    <p:spTgt spid="14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10480" cy="53352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3.Язычество древних славян.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320" y="4191120"/>
            <a:ext cx="8991360" cy="25905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Наряду с богами славяне верили в «низших духов»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Те в свою очередь делились на полезных и опасных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-Определите, кто изображен на слайдах и к какой группе духов относятся эти существа?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-Домовой,леший,водяной,волколак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-Каких еще славянских духов вы знаете?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51" name="Picture 9" descr="Рисунок4"/>
          <p:cNvPicPr/>
          <p:nvPr/>
        </p:nvPicPr>
        <p:blipFill>
          <a:blip r:embed="rId1"/>
          <a:stretch/>
        </p:blipFill>
        <p:spPr>
          <a:xfrm>
            <a:off x="179280" y="812880"/>
            <a:ext cx="1778040" cy="33368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Рисунок3"/>
          <p:cNvPicPr/>
          <p:nvPr/>
        </p:nvPicPr>
        <p:blipFill>
          <a:blip r:embed="rId2"/>
          <a:stretch/>
        </p:blipFill>
        <p:spPr>
          <a:xfrm>
            <a:off x="2001960" y="812880"/>
            <a:ext cx="2187360" cy="33177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1" descr="Рисунок2"/>
          <p:cNvPicPr/>
          <p:nvPr/>
        </p:nvPicPr>
        <p:blipFill>
          <a:blip r:embed="rId3"/>
          <a:stretch/>
        </p:blipFill>
        <p:spPr>
          <a:xfrm>
            <a:off x="4233960" y="812880"/>
            <a:ext cx="2176200" cy="33177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2" descr="Рисунок1"/>
          <p:cNvPicPr/>
          <p:nvPr/>
        </p:nvPicPr>
        <p:blipFill>
          <a:blip r:embed="rId4"/>
          <a:stretch/>
        </p:blipFill>
        <p:spPr>
          <a:xfrm>
            <a:off x="6454800" y="812880"/>
            <a:ext cx="2509920" cy="331776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9" dur="1" fill="hold"/>
                                  <p:tgtEl>
                                    <p:spTgt spid="15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0T21:55:04Z</dcterms:created>
  <dc:creator>elior</dc:creator>
  <dc:description/>
  <dc:language>en-US</dc:language>
  <cp:lastModifiedBy>LEGION</cp:lastModifiedBy>
  <cp:lastPrinted>1997-01-19T19:09:28Z</cp:lastPrinted>
  <dcterms:modified xsi:type="dcterms:W3CDTF">2015-01-15T12:35:06Z</dcterms:modified>
  <cp:revision>18</cp:revision>
  <dc:subject/>
  <dc:title>Заголовок слайда отсутствует</dc:title>
</cp:coreProperties>
</file>